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1535-D96F-4161-8A48-54245817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30F-E086-4E02-9AA3-22F80CDC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F99-6992-4B5A-8FCA-A6927D27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9F9-994C-4ABC-9F3C-2EC4758D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9C43-665A-4EA4-966F-2BABAF50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6151-182C-4B53-BE5D-3721B694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1F92-8218-4FF9-AA51-C9F0D682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0666-ACCE-4171-92CB-451C9A50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2A8F-8C22-47E7-BAA8-AAFF2E8A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E922-623E-4930-84E6-0E8B7447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1EC8-9B17-47BD-843E-19447550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76A-1937-4524-8895-84A17AAA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2EC1-5285-46F2-9BF4-38E321E9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F7FC-87CC-438A-8645-CD7041D7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3902-0984-4136-A876-59D86364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99C5-472F-4EDE-8D4E-331F5BA5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5C12-A90C-4EC1-A6E8-A4236FFC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9902-E3A0-4440-904A-6324FD71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EF2-3B9A-4E9F-99B0-C956FD54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A09A-FCEE-4735-8BCF-87FD77FB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E9E-F33A-4A0D-834F-5DE77CA2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50DA-BECD-4F0D-A041-52F8AB7C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BDA-1E9B-48C0-8346-F4A36E93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0B92-2FC3-4315-B8AF-A6E9C695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E835-0004-449E-9373-1AE4D913356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99C8-1E41-49A4-9CF7-1CCD8D854A9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КАТЕДРА ЗА ИНФЕКТИВНЕ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ИЗБОРНИ ПРЕДМЕТ: ТРОПСКЕ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Проф</a:t>
            </a: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. др Жељко Мијаилови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260280"/>
            <a:ext cx="754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пидемиолошки пода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иференцијална 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онични иридоциклитис (екваторијална тра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ератитис онхоцерк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оничан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води све изразитијем губитку ви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бегавање излагања бљештавом сунц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авнотежена исх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а абразија ле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ратопластика (одмакли стадију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ирусне инфекциј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341000"/>
            <a:ext cx="7543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еновироз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еспецифични фоликуларни коњунктив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јчешћа очна манифестација аденовирусне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Блага кл. слика, самоограничавајућег то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Хеморагијски конјунктивитис (ретко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Фарингокоњунктивална гроз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Фоликуларни конјунктивитис удружен са респираторним манифестацијама, регионалним лимфаденопатијом и фебрилношћ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Епидемијски кератокоњунктив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јозбиљнија очна манифес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кутни фоликуларни конјунктивитис са дифузним, површинским “pinpoint” епителијалним кератитис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Доминира бол у кл. слици (захваћеност рожњач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-3 недеље од почетка инфекције-субепителијална леукоцитна инфилтрација рожњач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Ређе могу настати корнеалне ерозије и конјунктивалне псеудомемб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-клинич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-симптомат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ортикостероиди-код тежих субепителијалних лезија рожњче и стварања псеудомемб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066320" y="333000"/>
            <a:ext cx="754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теровироз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кутни хеморагијски коњунктив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Ентеорвирус 70, коксаки 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кутни коњунктивитис, оток капака, суз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0-70% пацијената са коњуктивалним хеморагијама (булбарна локализа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“Тачкасти”, самоограничавајући кератитис-мали проценат пације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Благи системски симптоми-главобоља, гушобоља, фебрилност (ретк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-клинич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-симптоматс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горозна дезинфекција и стерилизација офталмолошких инструмената ! (интрахоспитално ширењ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овиру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не манифестације рет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аралитички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5-35% пацијената-слабост булбомотора (птоза, страбизам, анизокорија, офталмопле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-симптоматс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луенца виру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редњи уве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оњунктив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Дакроаде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Благи кер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Хориорети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Ретиналне хемораг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птички неу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 благе и самоограничавају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-симптоматс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ортикостероиди-предњи уве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042560" y="-171360"/>
            <a:ext cx="7543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би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већине пације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бично неколико дана од ишчезавања оспе и може перзистирати месец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ачкасте епителијалне ерозије (без симптома од стране очиј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оњунктивитис са отоком капака и сузењем-чест налаз (самоограничавајући)-”плачна маска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У особа са граничним вредностима витамина А-ксерофталмија и ксер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ачкасте лезије рожњаче, опсежне улцер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ератомалација-пацијенти са дефицитом витамина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ђе: ретинална пигметација, ретиналне хемораг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-симптоматс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итамин А-смањује за 30-80% морталитет везан за морби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бе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оњунктивитис (70% симптоматских пацијена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Епителијални кератитис (5-10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ритис, рети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онгенитална рубел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пасте, црне пигментације ре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тарак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кроофталм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ук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инална неоваскуларизац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-клинич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-симптоматс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55280" y="476280"/>
            <a:ext cx="785484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 симплекс виру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ХСВ-1 (најчешће као примарна инфек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Фоликуларни коњунктив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ер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езикулозне промене на капц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Улцерозни блефа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ХСВ-2 (најчешће као примарна инфекција неонеату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ролаз кроз инфицирани порођајни канал мајке у току порођа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ефоликуларни коњунктивитис, кератитис, хориоретинитис, некротизирајући рети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Задњи сегмент (много ређе): ретинитис, оптички неуритис, акутна ретинална некр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це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оњунктивитис (у свега 4% деце), стромални кератитис (дендритичн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ного ређе: ретинопатија, оптички неу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онгенитална варицела (ретка): хориоретинитис, микрофталмија, катарак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-симптоматс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алне улцерације-антибиотске кап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њи увеитис и дендритичне улцерације строме-кортикостерои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инитис-ацикловир 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СИНДРОМ ТРОПСКЕ АМБЛИОПИЈЕ</a:t>
            </a:r>
            <a:br>
              <a:rPr sz="2800"/>
            </a:br>
            <a:r>
              <a:rPr b="0" i="1" lang="sr-Latn-CS" sz="2800" spc="-1" strike="noStrike">
                <a:solidFill>
                  <a:srgbClr val="eaeaea"/>
                </a:solidFill>
                <a:latin typeface="Times New Roman"/>
              </a:rPr>
              <a:t>Neuritis optica tropicali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познате етиолог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ипотез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осебна осетљивост и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имунолошка аномалија (везано за црну расу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скључиво адолесценти и одрасли црн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ба по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ападна Африка, Источна Африка, Зимбабве, Јужноафричка Република, Мадагаск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 зостер (офталмичн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Реактивација из ганглиона тригеминалног нер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фталмична г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тока капка, кератитис, корнеална анестезија, иридоциклитис (са секундарним глаукомом), оптички неу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Задњи сегмент: ретинитис→акутна ретинална некроза (АИДС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-клинич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атс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њи сегмент ока-кортикостерои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вирусна: ацикловир, валацикловир, фамцикловир, фоскарн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а ретинална некр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скулитис+некроза+вит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е вида, увеитис, бол у о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милија херпес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ZV, HS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онгирана  системска примена ациклови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мегаловиру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генитал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риоретинити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рофија оптичког нер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офталмија (изузетно ретк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ч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мунокомпромитовани (АИДС, транпланта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ЦД4&lt;50/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бострани, некротизирајућ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птички неуритис→оптичка атроф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-клиничка, сер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-ганцикловир, фоскарнет, цидофови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ундарне, опортунистичке инфекције о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инопатија (2/3 нелечених пацијена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“Ватасте” мрље  на ретини, микроанеуризме, хемораг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Учесталост васкулопатије расте са степеном имуносупрес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ид очуван све до захватања маку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Бактеријске инфекциј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320" y="1125000"/>
            <a:ext cx="7543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хом о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mydia trachomatis (A-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инантно бoлест дец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ликуларни коњунктив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аурикуларна лимфаденопат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ерфицијални кератитис (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птура и ожиљц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бичних фоликула могу довести до полумесечастих формација познатих као Хербертове јам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жиљци→губитак пехарастих ћелија→сузе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уво око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06632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жиљавање→ретракција капака изнут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тропи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павице се тада померају директно преко површине рожњаче и коњунктив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ље оштећење епитела, улцерација рожњаче, неоваскуларизација, стварање ожиља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пи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~PP506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линич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еролошка (ЕЛИ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зитромицин 20 mg/kg-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Хируршка корекција капа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042560" y="18900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hthalmia Neonator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trachomatis immunotypes D</a:t>
            </a:r>
            <a:r>
              <a:rPr b="0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isseria gonorrhoe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ђи узрочници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ptococcus,E. Coli</a:t>
            </a:r>
            <a:r>
              <a:rPr b="0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бактер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натал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фузна папиларна реакција са лакримацијом која се јавља између 5 и 14 дана након рођења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ци су отечени и присутна је хипер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ција је углавном гнојна и могу се формирати псеудомемб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фоликуларни коњунктивитис-незрео имунски систем није у стању да генерише фолику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066320" y="189000"/>
            <a:ext cx="754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о се не излечи за 6-8 недеља, формирају се фоликули→фоликуларни коњунктив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ymphogranuloma Venere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trachomatis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типови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1, L2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уларне манифестације рет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inaud’s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улогландуларни синд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реаурикуларна лимфаденопат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але корнеалне улцер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Епискле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ридоцик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Уве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птички неуритис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-сероло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: доксициклин, еритромиц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06632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ђи узрочници очних манифестациј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cobacterium lepr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cobacterium tubercul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ипичне микобактер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ponema pallid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ptospir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rrelia recurren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coplasma pneumoni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coplasma hominis/Ureaplasma urealyticum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eiter’s s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nomy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cardia sp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ncisella tilaren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tonella hensela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at-scratch disea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јасан вид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(“као кроз маглу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егобе све изражен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ешко, обострано оштећење ви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тешкоће при читању и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тешкоће при препознавању боје ситнијих предм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ез бола у оч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сећај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“опеченог стопала”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болесника пеку табан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Ослабљен слу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5438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љивичне инфекциј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320" y="1125000"/>
            <a:ext cx="754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пергил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њунктивити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ератитис са корнеалном улцера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Ендофталмити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Ретиналне хемораг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еуритис оптичког нер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ко изолована фор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 удружена са локализацијом у максиларном синусу (инвазивни облик)-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ergilus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miga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компромитовани (чешћ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~PP1688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рбитални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e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индро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тоза кап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егзофталм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фталмопле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ригеминална неурал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губитак ви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икроскопско испитивање тк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ул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Хируршка екстирп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мфотерицин Б, вориконазол, каспофунг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ндидиј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 albicа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риоретинитис (хематогена дисеминација), обично код имунокомпромитован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ратитис, иридоциклитис, инфекција сузног апар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компетентни-обично након трауме или хируршких интерв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икроскопска анализа тк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ул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мфотерицин Б, флуконазол-локално и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066320" y="259920"/>
            <a:ext cx="7543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птокок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yptococcus neoform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ично удружене са менингитисом (30-40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ем папиле оптичког нер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љење ви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ђе: хориоретинитис, ендофталм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зетно ретко: увеитис, иридоциклитис (предњи сегмент о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икроскопски преглед ЦСТ или витреалне теч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ул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Флуконал, амфотерицин Б-системски и интравитреал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066320" y="333360"/>
            <a:ext cx="7543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стоплазм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plasma capsulat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Хориоретинални гранул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Дисеминована окуларна хистоплазм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ОХС (претпостављени окуларни хистоплазма синдром-имунокомпетентни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лтипли депозити у хороидеи-дискоидни ожиљци (са развојем имунског одговор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папиларни и периферни ретинални ожиљц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коидне лезије макул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дентификација узроч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ОХС-праћење, фотокоагул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мфотерицин Б (не у ПОХС-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066320" y="189000"/>
            <a:ext cx="754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кцидиомик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ccidioides imm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јчешће у склопу акутне кокцидиомик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њунктивитис, кератокоњунктивитис, иридоциклитис, хориорети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дозни ери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нуломи очних капака-узнапредовала боле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дентификација узрочника у тки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ул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ожни те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ер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мфотерицин Б (после акутне фазе-флуконазол и итраконазо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5438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аразитне инфекциј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320" y="980640"/>
            <a:ext cx="754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соплазм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xoplasma gond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илатерални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безболни постериорни уве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о-жућкасте некротичне лезије ретине и неуједначене пигмен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тритис, панувеитис, секундарни глау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генитална токсоплазмоза (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латерална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Хориорети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ит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Глау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истагм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трабиз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икрофталм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линичка-локални офталмолошк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ије потребно-ако је окуларна форма у стању мировања и асимптомат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онтроверза-да ли лечити имунокомпетентне са активном окуларном формом? (лезије мале и периферно локализова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мунокомпромитовани са активном окуларном лезијом, централно локализованом (посебно афекција ретине)-системска антитоксоплазматск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ар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smodium falciparum</a:t>
            </a:r>
            <a:r>
              <a:rPr b="0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редоминант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инални едем, хеморагије, ексудат (најчешће у пределу макул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ем папиле оптичког нерва-виши морталит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реглед густе капи и периферног разм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ер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Ц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римена антималар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~PP384.WAV" descr=""/>
          <p:cNvPicPr/>
          <p:nvPr/>
        </p:nvPicPr>
        <p:blipFill>
          <a:blip r:embed="rId7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фричка трипанозомијаз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panosoma brucei</a:t>
            </a:r>
            <a:r>
              <a:rPr b="0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mbien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ок капака, коњуктивална ињекција, увеитис и кер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ада и неоваскуларизација рожњач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дентификација трипанозоме у крви или тки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истемско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д у центру видног поља – маглов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глед очног д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на самом почетку-</a:t>
            </a:r>
            <a:r>
              <a:rPr b="1" i="1" lang="sr-CS" sz="2000" spc="-1" strike="noStrike">
                <a:solidFill>
                  <a:srgbClr val="ffff00"/>
                </a:solidFill>
                <a:latin typeface="Times New Roman"/>
              </a:rPr>
              <a:t>конгестивна</a:t>
            </a:r>
            <a:r>
              <a:rPr b="1" i="1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CS" sz="2000" spc="-1" strike="noStrike">
                <a:solidFill>
                  <a:srgbClr val="ffff00"/>
                </a:solidFill>
                <a:latin typeface="Times New Roman"/>
              </a:rPr>
              <a:t>папи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касније-</a:t>
            </a:r>
            <a:r>
              <a:rPr b="1" i="1" lang="sr-CS" sz="2000" spc="-1" strike="noStrike">
                <a:solidFill>
                  <a:srgbClr val="ffff00"/>
                </a:solidFill>
                <a:latin typeface="Times New Roman"/>
              </a:rPr>
              <a:t>бледило у слепоочном сект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спитивање видног по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остојање </a:t>
            </a:r>
            <a:r>
              <a:rPr b="1" i="1" lang="sr-CS" sz="2000" spc="-1" strike="noStrike">
                <a:solidFill>
                  <a:srgbClr val="ffff00"/>
                </a:solidFill>
                <a:latin typeface="Times New Roman"/>
              </a:rPr>
              <a:t>централног ското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игерија-сужено видно поље (вишефакторна етиологија-цијаниди из манио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еричка трипанозомијаза (Шагасова болес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panosoma cruz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мања зна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Безболни, унилатерални, периорбитални от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оњунктивитис (траје даним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Регионална (преаурикуларна) лимфаденопат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истемска примена бензнидазо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066320" y="333000"/>
            <a:ext cx="754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антамебиј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ратитис (прати трауму или ношење контактних сочив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 несразмеран офталмолошком налаз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есив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о се погрешно дијагностикује као херпетич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икроскопски преглед (корнеална струготи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ул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Локална примена: полихексаметилен бигуанида или пропамидин-изетио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хоцерк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ан од 5 водећих узрока слепила у 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крофиларије слободно мигрирају унутар рожњаче, предње очне коморе, стакластог тела, ретине, хороиде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ртве или умируће микрофиларије узрокују значајан инфламацијски одговор (живе узокују ограничени инфламцијски одгово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уларна онхоцерк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ња (кератититс-тачкасти кератитис, “пахуљасти”, иритис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Задња (хориоретинитис, папилитис, атрофија оптичког нерв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66320" y="549000"/>
            <a:ext cx="7543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а рекурентна упала→склерозирајући кератитис→може резултовати тоталним губитком ви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ктерише је инфилтрација запаљенским ћелијама и неоваскуларизација доњег, медијалног и темпоралног дела рожњач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ерендемична-Суданско гвинејска сав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фталмолошки прегл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Биопсија ко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ер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вермект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~PP1068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 Lo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уларне манифестације настају због миграције одраслих јединко око и/или кроз о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зина миграције је око 1цм/м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изуелизација субкоњунктивалних фор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лаз микрофиларија у к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Еозинофилија (нарочито у особа које не живе у ендемичним регијам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Диетилкарбамази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атична филариј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uchereria bancrofti,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gia malayi, Brugia timor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грација одрасле форме у коњунктиву-хемоза (оток коњунктиве), бол и осећај присуства страног т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ође се могу наћи у капцима, сузној жлезди, предњој комори, ирису у субрети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а лимфна дренажа-отоци капа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дентификација микрофиларије у к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66320" y="189000"/>
            <a:ext cx="75438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сокариј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xocara canis 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. ca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церална ларва мигран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уларна ларва мигран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нфекција са једном или неколико ла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тарија деца, ретко одрас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ферна локализација инфламације-испади у видном пољ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трално локализована инфламација-значајно смањење оштрине ви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дентификација цр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еханичко уклањање црва, ивермектин, албендаз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ШИСТОЗОМИЈАЗ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дна од најчешћих паразитарних болести љу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Гастроинтестинални тракт, јетра и мокраћни путе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лести код људи изазивају: 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Sh. masoni, Sh. haematobium, Sh. japonicum, Sh. intercalatum i Sh. Mekong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стале ретко изазивају болест код љу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рсте се међусобно разликуј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Не само по биолошким карактеристикама већ и п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Географској дистрибуцији и тип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PIDEMIOLOGIJA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И ЖИВОТНИ ЦИКЛУС ПАРАЗ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S. maso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а у Африци од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 haematobi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та Нила, северно од Каи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ас јужно од Саха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гола, Мадагаск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зил и друге земље Јужне Амер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. japonic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еки Исток (долина реке Јангце и централна Ки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. meko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ина реке Меконг (између Лаоса и Тајлан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аспрострањеност шистозомијазе зависи од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муналне диспозиције урин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S. haematobium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муналне диспозиције фецеса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S. japonicum, S. masoni, S. intercalatum, S. mekon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Neophodno prisustvo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prelazno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domaćin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pogodni puž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iom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halari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Афр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Biomphalaria glabrata 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Tropicarbi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ужна Америка и западна Инд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опходн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изложеност људи церкаријам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контаминираној во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404280"/>
            <a:ext cx="754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ндемо-клинички пода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фталмолошк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друженост са оштећењем других нера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иференцијална 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Паразитоз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: онхоцеркоз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: арбовирусне инфекције, трбушни тифус, менингококни менинг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Токсичне супстанц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: алкохол, дуван, традиционални и модерни леко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Дијабетес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тип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 тип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I-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ба су ретка у тропској Африц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Мултипла склероз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скоро да не постоји у тропској Африц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Тумори моз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емато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елики мужјак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вентрални гинекофоричн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н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њему се задржава женка за време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копул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асли празити живе 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зентеричним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талним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нам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masoni, S.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nicum, S.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kongi, S. intercalatu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нском плексусу око доњих делова уретера и мокраћне бешик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 haematobiu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овим местима након сексуалне репродукције отпуштају ја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259920"/>
            <a:ext cx="7543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ај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 masoni, S. japonicum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 остати у мезентеричним венама, цревном зиду и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грирати у цревни лумен и даље порталним крвотоком у 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 masoni, S. japonicu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ја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 haemoatobium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 остати у зиду црева или беш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 да пређу у цревни лумен или лумен мокраћне беш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избацивању столице и урина у свежу во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ја→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кретне мирацид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уж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релазни домаћ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66320" y="333000"/>
            <a:ext cx="754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ле асексуалног умножавања у пуж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развој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ркар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инфективне форме)-4-7 неде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карије преживљавају у алкалној води 72 с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то време могу изазвати инфекцију код љу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време пенетрације кроз кожу љу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карије губе репове→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истозому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стозомуле→мигрирају у плућ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6 недеља сазревају у одрасле паразите и мигрирају у своја крајња станиш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а јаја се могу наћи у екскретима 5-9 недеља после продирања церкарија у организ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66320" y="260280"/>
            <a:ext cx="7543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лућ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јетра (директно или путем крв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тна вен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сазревају и оплођују с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иректални венозни плексус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Sch. mason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atajаm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 и 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Sch. intercalatum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ивезикални венозни плексус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Sch. Haematobium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асле женке ту живе и полажу јаја (3-5 годи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ја крче пут кроз ректалну (везикалну слузницу) ка посредном домаћину тј.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ужу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хематурија, проли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50% случајева јаја остају заробљена или могу мигрирати (јетра, плућ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Чак и одрасли паразити могу да залутају (јајовод, перитонеум, ЦНС) и на месту положе ја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олазак јаја кроз слузниц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хематурија, крваве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уство јаја у ткивима→грануломатозн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инарни тракт: нодули, полипи, ожиљци у бешици и завршном делу уретера (мала калцификована бешика, преканцерозно измењен епител, опструкција уретера, хидронефроза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0708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Црева: нодуси, полипи, суж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тра: перипортална фиброза, портна хипертен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Имунолошки механиз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нтакт са шистозомулам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ли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филактичком реакцијом (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E,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тоцит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ост еозинофила посредством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G (ADC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 са парази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ција преосетљивости посредована имнуским комплекси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Katajama sy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 гломерулонеф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Јаја луче антигене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реакција касне преосетљив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нуломи (фиброза јетре, плућ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ЛИНИЧКЕ 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Шистозомни дерматитис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“свраб пливача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тичје врсте шистоз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ле пенетрације кроз кожу бивају уништ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авља се код особа које су раније биле изложене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 инфек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алергијска, хиперсензитивна реа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апуларна оспа, свра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нутар 24 сата после пенетрације церкар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аксимални интезитет у прва 2-3 дана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Акутна шистозомијаз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Katajama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грозниц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главном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S.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ј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aponicum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, као и тешке инфекције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S. maso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чешће се јавља код особа које иначе живе ван ендемичних подруч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фекцију добијају за време повременог боравка у ендемичним крајев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еукоцитоза и еозинофи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номени преосетљивости и запаљенс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 патогенетских зби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42560" y="-360"/>
            <a:ext cx="7543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вишена температура, дрхтавица, губитак телесне тежине, главобоља и каша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оспленомегалија, лимфаденопат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еукоцитоза са еозинофил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Хронична шистозомиј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Грануломи око јаја параз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броза око гранул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е ткива и 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masoni, S. 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nicum, S. 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kongi, S. intercalatum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мезентерични крвни судови)→цревни трак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мболије јајима→секундарна оштећења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ови у трбуху, крв у столици, убрзана перисталтика, полипоза цр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бољења јетре и слез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значајније манифестације инфекције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. mansoni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.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ponic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го без клиничких манифес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шка фиброза јетре и портна хипертен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броза јетре←грануломатозна реакција на јаја параз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пен фиброзе зависи од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жине инфекције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тске предиспозиције и особености имунског одгов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оничан и непредвид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најчешће-слепи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ђе-побољш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тамини нису показали пред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поруке за промену начина исхра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скључити мани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азноврсна исх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арентерална примена комплекса витамин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офила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декватна исх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авилна припрема манио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066320" y="836280"/>
            <a:ext cx="75438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Грануломи у јет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синусоидална опструкција портног крвотока и портна хипертен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леномегалија и езофагеални варикозите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арења из варикозитета→</a:t>
            </a:r>
            <a:r>
              <a:rPr b="1" i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увана перфузија хепатоцита→дуго очувана њихова фун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уштање функције јетре→</a:t>
            </a:r>
            <a:r>
              <a:rPr b="1" i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утица и асцит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ебна опасност→удруженост инфекције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 masoni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. japonicum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 хепатитисом Б као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monell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42560" y="189000"/>
            <a:ext cx="7543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Церебрална шистозомиј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Ретка манифестација, </a:t>
            </a:r>
            <a:r>
              <a:rPr b="1" i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 Japonic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кална, Џексонова епилепс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томи и знаци генерализованог енцефалити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 уринарних пут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 haemoatobi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нуломатозни одговор на јаја парази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етралне улцерације и полипоза мокраћне беши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а болест→грануломи на нижим деловима уретера (отежано отицање мокраће-хидроуретер, хидронефроза, фиброза и калцификације мокраћне бешике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карцином мокраћне бешик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ше од 50% инфицираних→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естало мокрење, хематурија и дизур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ин: протеинурија, хематур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4256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равак у ендемским крајев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нтакт са потенцијално контаминираном во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линичке 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лаз карактеристичних јаја у столици, урину или биоптичком узорку из ректума или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Јаја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карактеристичан изглед (величина, облик, латерална или терминална бодљ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јајима се налази мирацидијум карактеристичног изгле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орке за дијагностику инфекције </a:t>
            </a:r>
            <a:r>
              <a:rPr b="1" i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. Haematobi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имати у подне (екскреција јаја максимал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 јаја говори у прилог хроничне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~PP2927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333000"/>
            <a:ext cx="754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ер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Значајна за дијагнозу акутне инфек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Антитела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IgA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на антигене ја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Антител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IgM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IgG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на Кихол лимпет хемоцианин (КЛХ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ЛХ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екстракт морске шкољк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gathura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nulata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оја има исте карбохидрантне епитопе као површина шистозому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иквантел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лек избо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њује се у једној доз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/kg- </a:t>
            </a:r>
            <a:r>
              <a:rPr b="1" i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masoni, S. haematobium, S. intercalat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mg/kg- </a:t>
            </a:r>
            <a:r>
              <a:rPr b="1" i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 japonicum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КЛИМАТСКА К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РАТОПАТИЈА</a:t>
            </a:r>
            <a:br>
              <a:rPr sz="2800"/>
            </a:b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Biletti-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јева кератопатиј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00280"/>
            <a:ext cx="754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реће се искључиво у сличним еколошким услов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уво и топло поднеб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икротрау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тезивно, директно и индиректно, УВ зра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опска Африка и терени са доста одсјаја (Лабрадор на приме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ахелски појас, југ Африке (највише Трансвал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ушкарци, четрдесетих година, без обзира на рас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320" y="836280"/>
            <a:ext cx="75438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икротрауме-прашина и вет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УВ зрац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најштетнији факто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рагментација и одвајање епитела од стро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бнормална акумулација протеина у плазми рожњач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аворизујући фактор-потхрање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189000"/>
            <a:ext cx="75438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днострано или обострано прогресивно опадање ви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пре захвата центар видног поља (држање широко отворених капака оволелих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отофобија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 бол-одсут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изикални прегл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четак-сива,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непровидна екваторијална трака на рожња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асније-ситни чворићи у виду гроздова у темпоралном делу рожњач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филтрати се дроб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примају флуоресц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н 10 година→</a:t>
            </a:r>
            <a:r>
              <a:rPr b="1" i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провидни, калцификовани ожиљ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њи капци наду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6:35:04Z</dcterms:created>
  <dc:creator>Bill Gates</dc:creator>
  <dc:description/>
  <dc:language>en-US</dc:language>
  <cp:lastModifiedBy>Predrag Canovic</cp:lastModifiedBy>
  <dcterms:modified xsi:type="dcterms:W3CDTF">2023-02-03T01:44:09Z</dcterms:modified>
  <cp:revision>678</cp:revision>
  <dc:subject/>
  <dc:title>Slide 1</dc:title>
</cp:coreProperties>
</file>